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CDEA-1F3A-432E-A234-91AA3B20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F3FB-7FE8-491E-A586-C309D7EA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C8C9-F545-49BF-8A97-98B712D2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2A9-777D-4EAE-9A32-F0662AB7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7DB0-04E6-4C17-99B3-5CF33D54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6562-0197-4313-9E61-DE7D841E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B591-90D6-44ED-A3F3-D6D3277E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D992-850B-4FFC-8942-27835749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7315-3C84-479A-8D94-9E12A117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C7A0-B34B-4E82-A62D-E284FABF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A704-7696-4BD0-8C2C-A060EF48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002-B9EF-4BCD-8472-AFEBFFBA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126E-356A-4C58-A35B-1F8648B6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C0B5-E781-4CE0-A669-29CAAC1F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4D4A-709A-4366-8F86-E0D6A04F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2BD3-DFC7-474D-A2C9-276AAD73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1742-92A0-4F01-8756-4F625C14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F9A-FE5D-4F19-8D94-BFD9E3A8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804-825D-4134-AA09-9A9359E9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455-3167-42C6-8C6C-5B087D50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16B-3236-44D1-A658-BE5B46E9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EBA-129F-4E6B-8AB9-DCE2C84F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4E60-9BBE-4D28-98FB-2CA5A24F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4B58-9E45-44CD-BA28-A2C1172E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AA95-30CC-47ED-B53A-735857E68C7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9EE0-FBFF-4A35-8037-16EDCC29973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ncyclopedia.kids.net.au/page/pr/Protein" TargetMode="External"/><Relationship Id="rId3" Type="http://schemas.openxmlformats.org/officeDocument/2006/relationships/hyperlink" Target="http://encyclopedia.kids.net.au/page/im/Immune_system" TargetMode="External"/><Relationship Id="rId4" Type="http://schemas.openxmlformats.org/officeDocument/2006/relationships/hyperlink" Target="http://encyclopedia.kids.net.au/page/ba/Bacterium" TargetMode="External"/><Relationship Id="rId5" Type="http://schemas.openxmlformats.org/officeDocument/2006/relationships/hyperlink" Target="http://encyclopedia.kids.net.au/page/vi/Virus_(biology)" TargetMode="External"/><Relationship Id="rId6" Type="http://schemas.openxmlformats.org/officeDocument/2006/relationships/hyperlink" Target="http://encyclopedia.kids.net.au/page/an/Antigen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mmunicable Diseas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hapter 12: Lesson 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esson 2: The Immune System p. 336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" descr="Antibodies"/>
          <p:cNvPicPr/>
          <p:nvPr/>
        </p:nvPicPr>
        <p:blipFill>
          <a:blip r:embed="rId1"/>
          <a:stretch/>
        </p:blipFill>
        <p:spPr>
          <a:xfrm>
            <a:off x="1219320" y="175248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hat are antibodies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antibody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is a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protein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 complex used by the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immune system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 to identify and neutralize foreign objects like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bacteria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viruses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. Each antibody recognizes a specific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antigen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 unique to its target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tibodi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tibodies that recognize viruses can block these directly by their sheer size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virus will be unable to dock to a cell and infect it, hindered by the antibody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efending Against Invad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ach day your body is exposed to countless germs. To protect itself against these germs, your body takes action to repel, trap, or destroy th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body has natural barriers that keep germs out or destroy them before they can do any damag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5 major barriers, or “first lines of defense” p. 336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cuous membran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liv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omach aci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Immune System’s General Reactions p. 337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hen germs get inside your body, your immune system launches an attack. 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Three general reactions may occur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, no matter what kind of microorganism has invade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. Special white blood cells called phagocytes attack the invading germs. These cells actually surround the germs and destroy the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. The cells may release a chemical substance called interferon that stops viruses from reproducing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. Rising body temperature, commonly called a fever, makes it difficult for some microorganisms to reproduce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ighting against specific germs p. 337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o fight against specific germs, the body calls upon the lymphatic syst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lymphatic system is a secondary circulatory system that helps the body fight germs and maintain its fluid balanc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lymphatic system carries a watery fluid known as lymph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ymphocytes p. 337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ial white blood cells in the lymph are called lymphocyt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types: B-cells &amp; T-cell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th are important in fighting off germs and diseas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lymph also contains phagocytes known as macrophages, which help the lymphocytes identify invading germ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tigens &amp; Antibodies p. 337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tigens are substances that send your immune system into action when your body is invaded by germ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body recognizes antigens as invader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itbodies are proteins that attach to antigens, keeping them from harming the bod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Your immune system produces specific antibodies to fight each antige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igure 12.3 p. 338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ow the Immune System Responds to Germs 1-7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ELL ACTIVIT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ist as many different diseases as you ca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mmunity p. 339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r body’s ability to resist the germs that cause a particular disease is called immunit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You develop immunity in 2 way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atural exposure to germ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mmuniz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os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RITE QUESTIONS AND TURN IN WHEN FINISHE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. What are the body’s 5 barriers against diseas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 List 3 general reactions of the immune syst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. Define the terms antigen and antibod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ealth Goal # 3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will choose behaviors to reduce my risk of infection with communicable disease. P. 328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erms &amp; Disease p. 33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ust about everyone has had some experience with diseas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disease is any condition that interferes with the proper functioning of the body or min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unicable diseases are caused by microorganisms, organisms so small that they can be seen only through a microscop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fection p. 33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 infection results when germs get inside the body, multiply, and damage body cells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f the body is unable to fight off the infection, a disease occur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d you know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acteria are tiny, but they reproduce amazingly fast. In several hours, just one bacterium can multiply to 250,000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Viruses, Bacteria, and Other Germ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ot all germs are the sam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types of germs that cause diseases include viruses, bacteria, fungi, and protozo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st diseases that occur in the U.S. are caused by viruses or bacteri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igure 12.1 Causes of Disease p. 333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. Virus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ung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otozo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ow germs are spread p. 334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gure 12.2 Spreading Germ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rect Contac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irect Contac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Contact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act with Animals or Insect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7:06:24Z</dcterms:created>
  <dc:creator>Hope Whiting</dc:creator>
  <dc:description/>
  <dc:language>en-US</dc:language>
  <cp:lastModifiedBy>Hope Whiting</cp:lastModifiedBy>
  <dcterms:modified xsi:type="dcterms:W3CDTF">2011-06-21T17:39:18Z</dcterms:modified>
  <cp:revision>3</cp:revision>
  <dc:subject/>
  <dc:title>Communicable Diseases</dc:title>
</cp:coreProperties>
</file>